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10.wmf" ContentType="image/x-wmf"/>
  <Override PartName="/ppt/media/image15.wmf" ContentType="image/x-wmf"/>
  <Override PartName="/ppt/media/image7.png" ContentType="image/png"/>
  <Override PartName="/ppt/media/image2.png" ContentType="image/png"/>
  <Override PartName="/ppt/media/image32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media/image34.png" ContentType="image/png"/>
  <Override PartName="/ppt/media/image17.wmf" ContentType="image/x-wmf"/>
  <Override PartName="/ppt/media/image35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2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56B0-9346-4DBB-A25B-28069901EB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3E40-7B99-4013-AB5B-028015416C44}" type="slidenum">
              <a:rPr b="0" lang="ru-RU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A388-963E-4583-A652-7156A25945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B386-2F32-4726-B990-19F80B58DB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D307-CB04-4650-B4A2-3F61CD8D9E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5BA9-D84B-44AA-98A6-8CA969D782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A722-630B-44FC-8D88-62F4D7E6A6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9DAA-053C-4D5C-91C4-037A174EE5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6591-53AD-422E-8139-5021297E76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06D3-730F-4673-9BFF-80A6F86285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4F88-7B9E-43AD-A969-7C42F23FEB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3E17-AB89-427B-9066-DD2F0E514B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70A3-516C-46BE-9DC7-93CE9FDD6B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3616-B287-4232-BDBA-123EFCFBBB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8967-B0E0-439B-97CA-E755B3991E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F238-DFD5-418D-9790-34E81DFB06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F9B9-1F1C-43F1-98D9-D68E2E4DDA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B431-D79A-43DB-8098-C8EDA32C4D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6535-3BB7-4415-BBCA-6795142BE2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2F67-CE20-497E-9C72-65DEA3ECCE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90A5-21A5-4D05-B08F-9DDEB97DD2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DD78-F1FF-48CC-AACE-3DBD7CF4AC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7400-3528-4E7C-AB23-93786F49C8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CAF5-B9B6-4080-8616-F3BACDCC30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4454-16F7-48C1-85B2-99B4F27D8F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B8AE-AA3A-4090-B96B-F185571632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0757-1DDB-454E-9D83-2145F9B304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7712-880C-4243-9464-2FF61787CF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C27D-479F-412D-B5F2-4327F38CFF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2BF5-73EA-406F-934C-B3A753AA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CF6F-E568-45ED-97CE-39DE0141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BA22-4FCC-4690-9052-CB2A8FE4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CC2C-960F-4D64-880C-C27B002D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4C07-50E0-41E9-B8F8-6595A014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2DED-1F81-49D4-9DD4-A7C550D9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D64C-C4DA-44AA-93A8-2B5AA44E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2006-ED23-4D81-94F2-E064FF0D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B37B-7136-4756-A3C7-41403C62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3055-CE20-47EC-ABFF-5224958E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B68A-FCD1-4CF6-8A8C-D4F8C929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2254-12DC-41FD-BDE4-32202242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56A6-C8F7-4E86-AF83-2B68F342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E70B-251D-4211-93C3-6CCA0B8F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0D28-2CF8-41EB-83C0-D600E584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4154-6694-49A8-92A1-8A0628F4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E574-C9EC-4EAC-AB4B-ABDD0D35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552D8-9AEC-4293-8026-CA9F3041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0695A-36C3-4F2F-B7DC-5DCFA811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D3C72-E9D1-4CE0-8066-7493E389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D0FBD-E03E-4E9B-980E-3898C8CC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30D2F-3A99-472A-A80E-AE7FCCAF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599D-8F3C-466F-B85A-1C2D6C44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A1ED9-0D8C-4231-A0E9-D6E5C76E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DC0A2-07E9-4A55-A2D0-8901B5F5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F6C7D-21A4-414E-9418-15A51E62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74C6B-9637-4DBC-B327-A7F97DDC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7DCED-7096-460E-B290-9206FBD9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ACFFC-F1CD-4DDC-8CDF-5558D84E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489B1-F9ED-4966-95A8-17B88B01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B6160-785F-48FC-AA3C-2960E6E3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526B3-7E8D-4CF4-8ECA-8ED8D751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666EC-AB2C-41A7-A94D-D64EBE8F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673B-5D72-4833-8312-9511A956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63CE9-981A-4F53-9F36-4CBB8EF3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BB9C5-E12E-47D6-8CF6-EE4DB6DD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8621F-F96C-4949-B1A8-C7B35D50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5C3A7-EB08-4494-8787-64268056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B80A2-5B55-47B6-BE6F-43169121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49D95-4E00-418E-AE6D-48FB3E24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44D90-1D09-40AA-9B61-06573D34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526D0-9A78-4BFE-848C-6C19B8AB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FFC60-40ED-439B-95B6-3CA8D003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9BE88-9162-4B4C-ADAA-450B8393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0625-7A22-4CE8-AC33-72A8D713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051B2-3E25-4332-8BD2-8205EA41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716F4-2543-406C-A449-7F3079CA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1A4CB-FCA3-4F0C-8218-42142ADA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6C132-65E0-4080-A803-F6BF43C5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DE445-9B85-47FE-92F6-81CF8BDE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78474-F999-4A03-B592-12FA6A2E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3B0B5-ED41-4DC8-A406-94E91812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4299A-E5BB-4258-86E4-33B0F694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4CCFA-5CF2-4633-8C9E-D2C91D50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3DC4B-2585-4A94-A8C2-50C09C29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0754-64B7-410C-8C79-CE595529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93A94-B774-44C9-8B65-77D61D50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9940-5C0E-490A-956E-195A6136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FAC6-90FE-43E5-9122-CF9E1D49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BD15-D643-4747-84EF-0475436C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73BC-0916-45CA-86F4-1691B54A65B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FEA9-F808-4224-B02A-32C94CE5BE9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F632-9461-421B-83CF-3D2D16EFA40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A6D1-02BE-4FE6-88B9-8E91D7468DA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BA18-BA2D-43E6-863C-859DB0B6C3E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ipi.ru/oge-i-gve-9/demoversii-specifikacii-kodifikatory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>
            <a:alpha val="5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5699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5840" y="764640"/>
            <a:ext cx="9037800" cy="352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АКТУАЛЬНЫЕ ВОПРОСЫ СОДЕРЖАНИЯ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КОНТРОЛЬНЫХ ИЗМЕРИТЕЛЬНЫХ МАТЕРИАЛОВ, ИЗМЕНЕНИЯ В ОЦЕНИВАНИИ.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ОГЭ. ИСТОРИЯ-2019</a:t>
            </a:r>
            <a:endParaRPr b="0" lang="en-US" sz="2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4932360" y="4797360"/>
            <a:ext cx="4211640" cy="16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  <a:ea typeface="Arial"/>
              </a:rPr>
              <a:t>А.В. Фокина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 marL="457200" indent="-45720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  <a:ea typeface="Arial"/>
              </a:rPr>
              <a:t>Зам. председателя региональной предметной комиссии ОГЭ по истории, </a:t>
            </a: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  <a:p>
            <a:pPr marL="457200" indent="-45720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  <a:ea typeface="Arial"/>
              </a:rPr>
              <a:t>методист отдела обществоведческих дисциплин БУ ОО ДПО «Институт развития образования»</a:t>
            </a: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31" name="Прямоугольник 18"/>
          <p:cNvSpPr/>
          <p:nvPr/>
        </p:nvSpPr>
        <p:spPr>
          <a:xfrm>
            <a:off x="71280" y="98280"/>
            <a:ext cx="8964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32" name="Прямоугольник 1"/>
          <p:cNvSpPr/>
          <p:nvPr/>
        </p:nvSpPr>
        <p:spPr>
          <a:xfrm>
            <a:off x="2714760" y="357120"/>
            <a:ext cx="480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mbria"/>
                <a:ea typeface="Arial"/>
              </a:rPr>
              <a:t>Бюджетное учреждение Орловской области</a:t>
            </a: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mbria"/>
                <a:ea typeface="Arial"/>
              </a:rPr>
              <a:t>«Региональный центр оценки качества образования»</a:t>
            </a: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233" name="Picture 10" descr="&amp;Ocy;&amp;Rcy;&amp;TScy;&amp;Ocy;&amp;Kcy;&amp;Ocy;"/>
          <p:cNvPicPr/>
          <p:nvPr/>
        </p:nvPicPr>
        <p:blipFill>
          <a:blip r:embed="rId2"/>
          <a:stretch/>
        </p:blipFill>
        <p:spPr>
          <a:xfrm>
            <a:off x="0" y="0"/>
            <a:ext cx="1579680" cy="156528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8"/>
          <p:cNvSpPr/>
          <p:nvPr/>
        </p:nvSpPr>
        <p:spPr>
          <a:xfrm>
            <a:off x="250920" y="4869000"/>
            <a:ext cx="4211640" cy="20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  <a:ea typeface="Arial"/>
              </a:rPr>
              <a:t>И.В.Гончарова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 marL="457200" indent="-45720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  <a:ea typeface="Arial"/>
              </a:rPr>
              <a:t>Председатель региональной предметной комиссии ОГЭ по истории, д.и.н ., директор ресурсного центра профессиональной работы</a:t>
            </a: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  <a:p>
            <a:pPr marL="457200" indent="-45720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mbria"/>
                <a:ea typeface="Arial"/>
              </a:rPr>
              <a:t>ФГБОУ ВО«Орловский государственный университет имени И.С.Тургенева»</a:t>
            </a: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24776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17"/>
          <p:cNvSpPr/>
          <p:nvPr/>
        </p:nvSpPr>
        <p:spPr>
          <a:xfrm>
            <a:off x="7015680" y="629748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Arial"/>
              </a:rPr>
              <a:t>WWW.ORCOKO.RU</a:t>
            </a: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8964720" cy="23162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250920" y="4581360"/>
            <a:ext cx="8712000" cy="1132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24776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17"/>
          <p:cNvSpPr/>
          <p:nvPr/>
        </p:nvSpPr>
        <p:spPr>
          <a:xfrm>
            <a:off x="7015680" y="629748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Arial"/>
              </a:rPr>
              <a:t>WWW.ORCOKO.RU</a:t>
            </a: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4081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24776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17"/>
          <p:cNvSpPr/>
          <p:nvPr/>
        </p:nvSpPr>
        <p:spPr>
          <a:xfrm>
            <a:off x="7015680" y="629748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Arial"/>
              </a:rPr>
              <a:t>WWW.ORCOKO.RU</a:t>
            </a: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92" name="Rectangle 199"/>
          <p:cNvSpPr/>
          <p:nvPr/>
        </p:nvSpPr>
        <p:spPr>
          <a:xfrm>
            <a:off x="-717480" y="-5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93" name=""/>
          <p:cNvSpPr/>
          <p:nvPr/>
        </p:nvSpPr>
        <p:spPr>
          <a:xfrm>
            <a:off x="684360" y="0"/>
            <a:ext cx="8175600" cy="1341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спективные модел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М ОГЭ по истори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НЕ БУДЕТ ИСПОЛЬЗОВАТЬСЯ В  2019 году!)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94" name="Rectangle 288"/>
          <p:cNvSpPr/>
          <p:nvPr/>
        </p:nvSpPr>
        <p:spPr>
          <a:xfrm>
            <a:off x="324000" y="121068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ДЕ?</a:t>
            </a:r>
            <a:endParaRPr b="0" lang="en-US" sz="40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Сайт ФИПИ</a:t>
            </a:r>
            <a:r>
              <a:rPr b="0" i="1" lang="ru-RU" sz="1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http://www.fipi.ru/oge-i-gve-9/demoversii-specifikacii-kodifikatory</a:t>
            </a:r>
            <a:r>
              <a:rPr b="0" i="1" lang="ru-RU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95" name="Rectangle 288"/>
          <p:cNvSpPr/>
          <p:nvPr/>
        </p:nvSpPr>
        <p:spPr>
          <a:xfrm>
            <a:off x="324000" y="2923200"/>
            <a:ext cx="8280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ЧЕМУ?</a:t>
            </a:r>
            <a:endParaRPr b="0" lang="en-US" sz="40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Массовый переход на ФГОС 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Акцент на умениях (способах действий)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96" name=""/>
          <p:cNvSpPr/>
          <p:nvPr/>
        </p:nvSpPr>
        <p:spPr>
          <a:xfrm>
            <a:off x="5940360" y="3789360"/>
            <a:ext cx="1224000" cy="216000"/>
          </a:xfrm>
          <a:prstGeom prst="rightArrow">
            <a:avLst>
              <a:gd name="adj1" fmla="val 50000"/>
              <a:gd name="adj2" fmla="val 141667"/>
            </a:avLst>
          </a:pr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97" name="Rectangle 288"/>
          <p:cNvSpPr/>
          <p:nvPr/>
        </p:nvSpPr>
        <p:spPr>
          <a:xfrm>
            <a:off x="395280" y="4867920"/>
            <a:ext cx="8280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ИЗМЕНИЛОСЬ?</a:t>
            </a:r>
            <a:endParaRPr b="0" lang="en-US" sz="40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Практически нет заданий с выбором ответа 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Появление новых типов заданий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24776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17"/>
          <p:cNvSpPr/>
          <p:nvPr/>
        </p:nvSpPr>
        <p:spPr>
          <a:xfrm>
            <a:off x="7015680" y="629748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Arial"/>
              </a:rPr>
              <a:t>WWW.ORCOKO.RU</a:t>
            </a: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00" name="Rectangle 199"/>
          <p:cNvSpPr/>
          <p:nvPr/>
        </p:nvSpPr>
        <p:spPr>
          <a:xfrm>
            <a:off x="-717480" y="-5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01" name=""/>
          <p:cNvSpPr/>
          <p:nvPr/>
        </p:nvSpPr>
        <p:spPr>
          <a:xfrm>
            <a:off x="684360" y="0"/>
            <a:ext cx="8175600" cy="1052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спективные модел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М ОГЭ по истори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332000" y="1484280"/>
            <a:ext cx="676908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24776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17"/>
          <p:cNvSpPr/>
          <p:nvPr/>
        </p:nvSpPr>
        <p:spPr>
          <a:xfrm>
            <a:off x="7015680" y="629748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Arial"/>
              </a:rPr>
              <a:t>WWW.ORCOKO.RU</a:t>
            </a: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05" name="Rectangle 199"/>
          <p:cNvSpPr/>
          <p:nvPr/>
        </p:nvSpPr>
        <p:spPr>
          <a:xfrm>
            <a:off x="-717480" y="-5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06" name=""/>
          <p:cNvSpPr/>
          <p:nvPr/>
        </p:nvSpPr>
        <p:spPr>
          <a:xfrm>
            <a:off x="684360" y="0"/>
            <a:ext cx="8175600" cy="1052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спективные модел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М ОГЭ по истори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7921440" cy="3985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24776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 17"/>
          <p:cNvSpPr/>
          <p:nvPr/>
        </p:nvSpPr>
        <p:spPr>
          <a:xfrm>
            <a:off x="7015680" y="629748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Arial"/>
              </a:rPr>
              <a:t>WWW.ORCOKO.RU</a:t>
            </a: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10" name="Rectangle 199"/>
          <p:cNvSpPr/>
          <p:nvPr/>
        </p:nvSpPr>
        <p:spPr>
          <a:xfrm>
            <a:off x="-717480" y="-5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11" name=""/>
          <p:cNvSpPr/>
          <p:nvPr/>
        </p:nvSpPr>
        <p:spPr>
          <a:xfrm>
            <a:off x="684360" y="0"/>
            <a:ext cx="8175600" cy="1052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спективные модел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М ОГЭ по истори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8135640" cy="3930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24776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17"/>
          <p:cNvSpPr/>
          <p:nvPr/>
        </p:nvSpPr>
        <p:spPr>
          <a:xfrm>
            <a:off x="7015680" y="629748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Arial"/>
              </a:rPr>
              <a:t>WWW.ORCOKO.RU</a:t>
            </a: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15" name="Rectangle 199"/>
          <p:cNvSpPr/>
          <p:nvPr/>
        </p:nvSpPr>
        <p:spPr>
          <a:xfrm>
            <a:off x="-717480" y="-5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16" name=""/>
          <p:cNvSpPr/>
          <p:nvPr/>
        </p:nvSpPr>
        <p:spPr>
          <a:xfrm>
            <a:off x="684360" y="0"/>
            <a:ext cx="8280360" cy="1341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спективные модел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М ОГЭ по истори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АСТЬ 1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6408720" cy="444168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288"/>
          <p:cNvSpPr/>
          <p:nvPr/>
        </p:nvSpPr>
        <p:spPr>
          <a:xfrm>
            <a:off x="7380360" y="2059560"/>
            <a:ext cx="1439640" cy="581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е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19" name="Rectangle 288"/>
          <p:cNvSpPr/>
          <p:nvPr/>
        </p:nvSpPr>
        <p:spPr>
          <a:xfrm>
            <a:off x="7451640" y="4872600"/>
            <a:ext cx="1440000" cy="581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ло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247760"/>
          </a:xfrm>
          <a:prstGeom prst="rect">
            <a:avLst/>
          </a:prstGeom>
          <a:ln w="0">
            <a:noFill/>
          </a:ln>
        </p:spPr>
      </p:pic>
      <p:sp>
        <p:nvSpPr>
          <p:cNvPr id="321" name="Прямоугольник 17"/>
          <p:cNvSpPr/>
          <p:nvPr/>
        </p:nvSpPr>
        <p:spPr>
          <a:xfrm>
            <a:off x="7015680" y="629748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Arial"/>
              </a:rPr>
              <a:t>WWW.ORCOKO.RU</a:t>
            </a: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22" name="Rectangle 199"/>
          <p:cNvSpPr/>
          <p:nvPr/>
        </p:nvSpPr>
        <p:spPr>
          <a:xfrm>
            <a:off x="-717480" y="-5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23" name=""/>
          <p:cNvSpPr/>
          <p:nvPr/>
        </p:nvSpPr>
        <p:spPr>
          <a:xfrm>
            <a:off x="684360" y="0"/>
            <a:ext cx="8280360" cy="1341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спективные модел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М ОГЭ по истори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АСТЬ 1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24" name="Rectangle 288"/>
          <p:cNvSpPr/>
          <p:nvPr/>
        </p:nvSpPr>
        <p:spPr>
          <a:xfrm>
            <a:off x="7451640" y="2927880"/>
            <a:ext cx="1440000" cy="581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е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7057800" cy="363384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288"/>
          <p:cNvSpPr/>
          <p:nvPr/>
        </p:nvSpPr>
        <p:spPr>
          <a:xfrm>
            <a:off x="7451640" y="3937320"/>
            <a:ext cx="1440000" cy="581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КО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24776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17"/>
          <p:cNvSpPr/>
          <p:nvPr/>
        </p:nvSpPr>
        <p:spPr>
          <a:xfrm>
            <a:off x="7015680" y="629748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Arial"/>
              </a:rPr>
              <a:t>WWW.ORCOKO.RU</a:t>
            </a: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29" name="Rectangle 199"/>
          <p:cNvSpPr/>
          <p:nvPr/>
        </p:nvSpPr>
        <p:spPr>
          <a:xfrm>
            <a:off x="-717480" y="-5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30" name=""/>
          <p:cNvSpPr/>
          <p:nvPr/>
        </p:nvSpPr>
        <p:spPr>
          <a:xfrm>
            <a:off x="684360" y="0"/>
            <a:ext cx="8280360" cy="1341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спективные модел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М ОГЭ по истори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АСТЬ 1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31" name="Rectangle 288"/>
          <p:cNvSpPr/>
          <p:nvPr/>
        </p:nvSpPr>
        <p:spPr>
          <a:xfrm>
            <a:off x="7308720" y="3648600"/>
            <a:ext cx="1440000" cy="581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ло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655308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24776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17"/>
          <p:cNvSpPr/>
          <p:nvPr/>
        </p:nvSpPr>
        <p:spPr>
          <a:xfrm>
            <a:off x="7015680" y="629748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Arial"/>
              </a:rPr>
              <a:t>WWW.ORCOKO.RU</a:t>
            </a: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35" name="Rectangle 199"/>
          <p:cNvSpPr/>
          <p:nvPr/>
        </p:nvSpPr>
        <p:spPr>
          <a:xfrm>
            <a:off x="-717480" y="-5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36" name="Rectangle 288"/>
          <p:cNvSpPr/>
          <p:nvPr/>
        </p:nvSpPr>
        <p:spPr>
          <a:xfrm>
            <a:off x="5076720" y="2208600"/>
            <a:ext cx="1440000" cy="581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е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94200" cy="59324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3851280" y="5776920"/>
            <a:ext cx="5292720" cy="10810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822920" y="0"/>
            <a:ext cx="4321080" cy="141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спективные модел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М ОГЭ по истори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АСТЬ 1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24776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17"/>
          <p:cNvSpPr/>
          <p:nvPr/>
        </p:nvSpPr>
        <p:spPr>
          <a:xfrm>
            <a:off x="7015680" y="629748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Arial"/>
              </a:rPr>
              <a:t>WWW.ORCOKO.RU</a:t>
            </a: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468360" y="153000"/>
            <a:ext cx="77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результаты ОГЭ по истории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ество участников ОГЭ по истории (за последние 3 года)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38" name="Rectangle 432"/>
          <p:cNvSpPr/>
          <p:nvPr/>
        </p:nvSpPr>
        <p:spPr>
          <a:xfrm>
            <a:off x="228600" y="511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39" name="Rectangle 7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95280" y="1341360"/>
          <a:ext cx="8381880" cy="4952880"/>
        </p:xfrm>
        <a:graphic>
          <a:graphicData uri="http://schemas.openxmlformats.org/drawingml/2006/table">
            <a:tbl>
              <a:tblPr/>
              <a:tblGrid>
                <a:gridCol w="3593880"/>
                <a:gridCol w="1843200"/>
                <a:gridCol w="1411200"/>
                <a:gridCol w="1533600"/>
              </a:tblGrid>
              <a:tr h="465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Times New Roman"/>
                          <a:ea typeface="MS Mincho"/>
                        </a:rPr>
                        <a:t>Количество выпускников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Орловская область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Times New Roman"/>
                          <a:ea typeface="MS Mincho"/>
                        </a:rPr>
                        <a:t>2016 г.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Times New Roman"/>
                          <a:ea typeface="MS Mincho"/>
                        </a:rPr>
                        <a:t>(505 участников)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Times New Roman"/>
                          <a:ea typeface="MS Mincho"/>
                        </a:rPr>
                        <a:t>2017 г.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Times New Roman"/>
                          <a:ea typeface="MS Mincho"/>
                        </a:rPr>
                        <a:t>(344 участник</a:t>
                      </a: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Times New Roman"/>
                          <a:ea typeface="MS Mincho"/>
                        </a:rPr>
                        <a:t>)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MS Mincho"/>
                        </a:rPr>
                        <a:t>2018 г.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MS Mincho"/>
                        </a:rPr>
                        <a:t>(180 участников)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Times New Roman"/>
                          <a:ea typeface="MS Mincho"/>
                        </a:rPr>
                        <a:t>Получили оценку «2»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Calibri"/>
                        </a:rPr>
                        <a:t>97 (19,2 %)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52% 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,22 % 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Times New Roman"/>
                          <a:ea typeface="MS Mincho"/>
                        </a:rPr>
                        <a:t>Получили оценки «4» и «5»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 (39,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%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,6 % 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0 % 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Times New Roman"/>
                          <a:ea typeface="MS Mincho"/>
                        </a:rPr>
                        <a:t>Средний балл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9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3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,73%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Times New Roman"/>
                          <a:ea typeface="Calibri"/>
                        </a:rPr>
                        <a:t>Набрали максимальное количество баллов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92934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9 %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24776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17"/>
          <p:cNvSpPr/>
          <p:nvPr/>
        </p:nvSpPr>
        <p:spPr>
          <a:xfrm>
            <a:off x="7015680" y="629748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Arial"/>
              </a:rPr>
              <a:t>WWW.ORCOKO.RU</a:t>
            </a: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42" name="Rectangle 199"/>
          <p:cNvSpPr/>
          <p:nvPr/>
        </p:nvSpPr>
        <p:spPr>
          <a:xfrm>
            <a:off x="-717480" y="-5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43" name="Rectangle 288"/>
          <p:cNvSpPr/>
          <p:nvPr/>
        </p:nvSpPr>
        <p:spPr>
          <a:xfrm>
            <a:off x="5076720" y="2208600"/>
            <a:ext cx="1440000" cy="581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е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24480" cy="54831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4822920" y="0"/>
            <a:ext cx="4321080" cy="141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спективные модел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М ОГЭ по истори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АСТЬ 1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3564000" y="4457880"/>
            <a:ext cx="5580000" cy="2400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247760"/>
          </a:xfrm>
          <a:prstGeom prst="rect">
            <a:avLst/>
          </a:prstGeom>
          <a:ln w="0">
            <a:noFill/>
          </a:ln>
        </p:spPr>
      </p:pic>
      <p:sp>
        <p:nvSpPr>
          <p:cNvPr id="348" name="Прямоугольник 17"/>
          <p:cNvSpPr/>
          <p:nvPr/>
        </p:nvSpPr>
        <p:spPr>
          <a:xfrm>
            <a:off x="7015680" y="629748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Arial"/>
              </a:rPr>
              <a:t>WWW.ORCOKO.RU</a:t>
            </a: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49" name="Rectangle 199"/>
          <p:cNvSpPr/>
          <p:nvPr/>
        </p:nvSpPr>
        <p:spPr>
          <a:xfrm>
            <a:off x="-717480" y="-5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50" name=""/>
          <p:cNvSpPr/>
          <p:nvPr/>
        </p:nvSpPr>
        <p:spPr>
          <a:xfrm>
            <a:off x="684360" y="0"/>
            <a:ext cx="8280360" cy="1341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спективные модел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М ОГЭ по истори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АСТЬ 1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51" name="Rectangle 288"/>
          <p:cNvSpPr/>
          <p:nvPr/>
        </p:nvSpPr>
        <p:spPr>
          <a:xfrm>
            <a:off x="7308720" y="3648600"/>
            <a:ext cx="1440000" cy="581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ло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6767640" cy="5089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24776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17"/>
          <p:cNvSpPr/>
          <p:nvPr/>
        </p:nvSpPr>
        <p:spPr>
          <a:xfrm>
            <a:off x="7015680" y="629748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Arial"/>
              </a:rPr>
              <a:t>WWW.ORCOKO.RU</a:t>
            </a: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55" name="Rectangle 199"/>
          <p:cNvSpPr/>
          <p:nvPr/>
        </p:nvSpPr>
        <p:spPr>
          <a:xfrm>
            <a:off x="-717480" y="-5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56" name=""/>
          <p:cNvSpPr/>
          <p:nvPr/>
        </p:nvSpPr>
        <p:spPr>
          <a:xfrm>
            <a:off x="684360" y="0"/>
            <a:ext cx="8280360" cy="1341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спективные модел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М ОГЭ по истори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АСТЬ 1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57" name="Rectangle 288"/>
          <p:cNvSpPr/>
          <p:nvPr/>
        </p:nvSpPr>
        <p:spPr>
          <a:xfrm>
            <a:off x="7093080" y="5520240"/>
            <a:ext cx="1439640" cy="581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ло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784872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24776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17"/>
          <p:cNvSpPr/>
          <p:nvPr/>
        </p:nvSpPr>
        <p:spPr>
          <a:xfrm>
            <a:off x="7015680" y="629748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Arial"/>
              </a:rPr>
              <a:t>WWW.ORCOKO.RU</a:t>
            </a: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61" name="Rectangle 199"/>
          <p:cNvSpPr/>
          <p:nvPr/>
        </p:nvSpPr>
        <p:spPr>
          <a:xfrm>
            <a:off x="-717480" y="-5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62" name=""/>
          <p:cNvSpPr/>
          <p:nvPr/>
        </p:nvSpPr>
        <p:spPr>
          <a:xfrm>
            <a:off x="5651640" y="0"/>
            <a:ext cx="3492360" cy="1125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спективные модели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М ОГЭ по истории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АСТЬ 1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63" name="Rectangle 288"/>
          <p:cNvSpPr/>
          <p:nvPr/>
        </p:nvSpPr>
        <p:spPr>
          <a:xfrm>
            <a:off x="7308720" y="3648600"/>
            <a:ext cx="1440000" cy="581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е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0" y="723960"/>
            <a:ext cx="6372360" cy="613404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88"/>
          <p:cNvSpPr/>
          <p:nvPr/>
        </p:nvSpPr>
        <p:spPr>
          <a:xfrm>
            <a:off x="7308720" y="4512240"/>
            <a:ext cx="1440000" cy="581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ПР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24776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17"/>
          <p:cNvSpPr/>
          <p:nvPr/>
        </p:nvSpPr>
        <p:spPr>
          <a:xfrm>
            <a:off x="7015680" y="629748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Arial"/>
              </a:rPr>
              <a:t>WWW.ORCOKO.RU</a:t>
            </a: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68" name="Rectangle 199"/>
          <p:cNvSpPr/>
          <p:nvPr/>
        </p:nvSpPr>
        <p:spPr>
          <a:xfrm>
            <a:off x="-717480" y="-5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69" name=""/>
          <p:cNvSpPr/>
          <p:nvPr/>
        </p:nvSpPr>
        <p:spPr>
          <a:xfrm>
            <a:off x="684360" y="0"/>
            <a:ext cx="8280360" cy="1341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спективные модели КИМ ОГЭ по истори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АСТЬ 1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70" name="Rectangle 288"/>
          <p:cNvSpPr/>
          <p:nvPr/>
        </p:nvSpPr>
        <p:spPr>
          <a:xfrm>
            <a:off x="7524720" y="2137320"/>
            <a:ext cx="1440000" cy="581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е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71" name="Rectangle 288"/>
          <p:cNvSpPr/>
          <p:nvPr/>
        </p:nvSpPr>
        <p:spPr>
          <a:xfrm>
            <a:off x="2411280" y="911880"/>
            <a:ext cx="496728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общая история</a:t>
            </a:r>
            <a:endParaRPr b="0" lang="en-US" sz="36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7164360" cy="18543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1547640" y="3860640"/>
            <a:ext cx="7380360" cy="2500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247760"/>
          </a:xfrm>
          <a:prstGeom prst="rect">
            <a:avLst/>
          </a:prstGeom>
          <a:ln w="0">
            <a:noFill/>
          </a:ln>
        </p:spPr>
      </p:pic>
      <p:sp>
        <p:nvSpPr>
          <p:cNvPr id="375" name="Прямоугольник 17"/>
          <p:cNvSpPr/>
          <p:nvPr/>
        </p:nvSpPr>
        <p:spPr>
          <a:xfrm>
            <a:off x="7015680" y="629748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Arial"/>
              </a:rPr>
              <a:t>WWW.ORCOKO.RU</a:t>
            </a: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76" name="Rectangle 199"/>
          <p:cNvSpPr/>
          <p:nvPr/>
        </p:nvSpPr>
        <p:spPr>
          <a:xfrm>
            <a:off x="-717480" y="-5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77" name=""/>
          <p:cNvSpPr/>
          <p:nvPr/>
        </p:nvSpPr>
        <p:spPr>
          <a:xfrm>
            <a:off x="684360" y="0"/>
            <a:ext cx="8280360" cy="1341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спективные модели КИМ ОГЭ по истори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АСТЬ 1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78" name="Rectangle 288"/>
          <p:cNvSpPr/>
          <p:nvPr/>
        </p:nvSpPr>
        <p:spPr>
          <a:xfrm>
            <a:off x="7524720" y="2137320"/>
            <a:ext cx="1440000" cy="581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е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79" name="Rectangle 288"/>
          <p:cNvSpPr/>
          <p:nvPr/>
        </p:nvSpPr>
        <p:spPr>
          <a:xfrm>
            <a:off x="2411280" y="911880"/>
            <a:ext cx="496728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общая история</a:t>
            </a:r>
            <a:endParaRPr b="0" lang="en-US" sz="36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6769080" cy="17524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1547640" y="3500280"/>
            <a:ext cx="7201080" cy="327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24776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17"/>
          <p:cNvSpPr/>
          <p:nvPr/>
        </p:nvSpPr>
        <p:spPr>
          <a:xfrm>
            <a:off x="7015680" y="629748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Arial"/>
              </a:rPr>
              <a:t>WWW.ORCOKO.RU</a:t>
            </a: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84" name="Rectangle 199"/>
          <p:cNvSpPr/>
          <p:nvPr/>
        </p:nvSpPr>
        <p:spPr>
          <a:xfrm>
            <a:off x="-717480" y="-5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>
            <a:off x="179280" y="0"/>
            <a:ext cx="8785440" cy="907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спективные модели КИМ ОГЭ по истори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АСТЬ 2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86" name="Rectangle 288"/>
          <p:cNvSpPr/>
          <p:nvPr/>
        </p:nvSpPr>
        <p:spPr>
          <a:xfrm>
            <a:off x="7093080" y="5448600"/>
            <a:ext cx="1295280" cy="581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е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87" name="Rectangle 288"/>
          <p:cNvSpPr/>
          <p:nvPr/>
        </p:nvSpPr>
        <p:spPr>
          <a:xfrm>
            <a:off x="7093080" y="4800960"/>
            <a:ext cx="1295280" cy="581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ло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923760"/>
            <a:ext cx="6877080" cy="593424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288"/>
          <p:cNvSpPr/>
          <p:nvPr/>
        </p:nvSpPr>
        <p:spPr>
          <a:xfrm>
            <a:off x="7093080" y="6096600"/>
            <a:ext cx="1295280" cy="581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е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90" name="Rectangle 288"/>
          <p:cNvSpPr/>
          <p:nvPr/>
        </p:nvSpPr>
        <p:spPr>
          <a:xfrm>
            <a:off x="6948360" y="1271880"/>
            <a:ext cx="2051280" cy="1068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Работа с текстом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24776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оугольник 17"/>
          <p:cNvSpPr/>
          <p:nvPr/>
        </p:nvSpPr>
        <p:spPr>
          <a:xfrm>
            <a:off x="7015680" y="629748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Arial"/>
              </a:rPr>
              <a:t>WWW.ORCOKO.RU</a:t>
            </a: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93" name="Rectangle 199"/>
          <p:cNvSpPr/>
          <p:nvPr/>
        </p:nvSpPr>
        <p:spPr>
          <a:xfrm>
            <a:off x="-717480" y="-5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684360" y="0"/>
            <a:ext cx="8280360" cy="1341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спективные модел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М ОГЭ по истори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АСТЬ 2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95" name="Rectangle 288"/>
          <p:cNvSpPr/>
          <p:nvPr/>
        </p:nvSpPr>
        <p:spPr>
          <a:xfrm>
            <a:off x="7524720" y="2640600"/>
            <a:ext cx="1440000" cy="581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е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0" y="2089080"/>
            <a:ext cx="7524720" cy="1900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24776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оугольник 17"/>
          <p:cNvSpPr/>
          <p:nvPr/>
        </p:nvSpPr>
        <p:spPr>
          <a:xfrm>
            <a:off x="7015680" y="629748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Arial"/>
              </a:rPr>
              <a:t>WWW.ORCOKO.RU</a:t>
            </a: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99" name="Rectangle 199"/>
          <p:cNvSpPr/>
          <p:nvPr/>
        </p:nvSpPr>
        <p:spPr>
          <a:xfrm>
            <a:off x="-717480" y="-5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684360" y="0"/>
            <a:ext cx="8280360" cy="1341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спективные модел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М ОГЭ по истори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АСТЬ 2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01" name="Rectangle 288"/>
          <p:cNvSpPr/>
          <p:nvPr/>
        </p:nvSpPr>
        <p:spPr>
          <a:xfrm>
            <a:off x="7524720" y="3145320"/>
            <a:ext cx="1440000" cy="581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е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7274160" cy="4322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24776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17"/>
          <p:cNvSpPr/>
          <p:nvPr/>
        </p:nvSpPr>
        <p:spPr>
          <a:xfrm>
            <a:off x="7015680" y="629748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Arial"/>
              </a:rPr>
              <a:t>WWW.ORCOKO.RU</a:t>
            </a: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05" name="Rectangle 199"/>
          <p:cNvSpPr/>
          <p:nvPr/>
        </p:nvSpPr>
        <p:spPr>
          <a:xfrm>
            <a:off x="-717480" y="-5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06" name=""/>
          <p:cNvSpPr/>
          <p:nvPr/>
        </p:nvSpPr>
        <p:spPr>
          <a:xfrm>
            <a:off x="684360" y="0"/>
            <a:ext cx="8280360" cy="1341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спективные модел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М ОГЭ по истори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АСТЬ 2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07" name="Rectangle 288"/>
          <p:cNvSpPr/>
          <p:nvPr/>
        </p:nvSpPr>
        <p:spPr>
          <a:xfrm>
            <a:off x="7524720" y="2640600"/>
            <a:ext cx="1440000" cy="581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ло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7848360" cy="10447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179280" y="3284640"/>
            <a:ext cx="7489800" cy="264312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88"/>
          <p:cNvSpPr/>
          <p:nvPr/>
        </p:nvSpPr>
        <p:spPr>
          <a:xfrm>
            <a:off x="7451640" y="5880600"/>
            <a:ext cx="1440000" cy="581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ло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d2533c"/>
                </a:solidFill>
                <a:latin typeface="Arial"/>
              </a:rPr>
              <a:t>Распределение заданий по частям </a:t>
            </a:r>
            <a:br>
              <a:rPr sz="1900"/>
            </a:br>
            <a:r>
              <a:rPr b="0" i="1" lang="ru-RU" sz="1900" spc="-1" strike="noStrike">
                <a:solidFill>
                  <a:srgbClr val="d2533c"/>
                </a:solidFill>
                <a:latin typeface="Arial"/>
              </a:rPr>
              <a:t>экзаменационной работы</a:t>
            </a:r>
            <a:endParaRPr b="0" lang="en-US" sz="19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2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320840"/>
          </a:xfrm>
          <a:prstGeom prst="rect">
            <a:avLst/>
          </a:prstGeom>
          <a:ln w="0">
            <a:noFill/>
          </a:ln>
        </p:spPr>
      </p:pic>
      <p:grpSp>
        <p:nvGrpSpPr>
          <p:cNvPr id="243" name="Группа 8"/>
          <p:cNvGrpSpPr/>
          <p:nvPr/>
        </p:nvGrpSpPr>
        <p:grpSpPr>
          <a:xfrm>
            <a:off x="1908000" y="0"/>
            <a:ext cx="6193080" cy="1197000"/>
            <a:chOff x="1908000" y="0"/>
            <a:chExt cx="6193080" cy="1197000"/>
          </a:xfrm>
        </p:grpSpPr>
        <p:sp>
          <p:nvSpPr>
            <p:cNvPr id="244" name="Скругленный прямоугольник 7"/>
            <p:cNvSpPr/>
            <p:nvPr/>
          </p:nvSpPr>
          <p:spPr>
            <a:xfrm>
              <a:off x="1982520" y="0"/>
              <a:ext cx="6118560" cy="119700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26280">
              <a:solidFill>
                <a:srgbClr val="6b7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45" name="TextBox 5"/>
            <p:cNvSpPr/>
            <p:nvPr/>
          </p:nvSpPr>
          <p:spPr>
            <a:xfrm>
              <a:off x="1908000" y="0"/>
              <a:ext cx="5969520" cy="947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35 заданий</a:t>
              </a:r>
              <a:endParaRPr b="0" lang="en-US" sz="3200" spc="-1" strike="noStrike">
                <a:solidFill>
                  <a:srgbClr val="292934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Максимальный балл - </a:t>
              </a:r>
              <a:r>
                <a:rPr b="1" lang="ru-RU" sz="2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44</a:t>
              </a: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6877080" cy="2577960"/>
          </a:xfrm>
          <a:prstGeom prst="rect">
            <a:avLst/>
          </a:prstGeom>
          <a:ln w="0">
            <a:noFill/>
          </a:ln>
        </p:spPr>
      </p:pic>
      <p:grpSp>
        <p:nvGrpSpPr>
          <p:cNvPr id="247" name="Группа 8"/>
          <p:cNvGrpSpPr/>
          <p:nvPr/>
        </p:nvGrpSpPr>
        <p:grpSpPr>
          <a:xfrm>
            <a:off x="2951280" y="3789360"/>
            <a:ext cx="6192720" cy="576360"/>
            <a:chOff x="2951280" y="3789360"/>
            <a:chExt cx="6192720" cy="576360"/>
          </a:xfrm>
        </p:grpSpPr>
        <p:sp>
          <p:nvSpPr>
            <p:cNvPr id="248" name="Скругленный прямоугольник 7"/>
            <p:cNvSpPr/>
            <p:nvPr/>
          </p:nvSpPr>
          <p:spPr>
            <a:xfrm>
              <a:off x="3025800" y="3789360"/>
              <a:ext cx="6118200" cy="576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6280">
              <a:solidFill>
                <a:srgbClr val="6b7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49" name="TextBox 5"/>
            <p:cNvSpPr/>
            <p:nvPr/>
          </p:nvSpPr>
          <p:spPr>
            <a:xfrm>
              <a:off x="2951280" y="3789360"/>
              <a:ext cx="5969160" cy="520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Продолжительность – 180 минут</a:t>
              </a:r>
              <a:endParaRPr b="0" lang="en-US" sz="28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68407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24776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17"/>
          <p:cNvSpPr/>
          <p:nvPr/>
        </p:nvSpPr>
        <p:spPr>
          <a:xfrm>
            <a:off x="7015680" y="629748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Arial"/>
              </a:rPr>
              <a:t>WWW.ORCOKO.RU</a:t>
            </a: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13" name="Rectangle 199"/>
          <p:cNvSpPr/>
          <p:nvPr/>
        </p:nvSpPr>
        <p:spPr>
          <a:xfrm>
            <a:off x="-717480" y="-5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14" name=""/>
          <p:cNvSpPr/>
          <p:nvPr/>
        </p:nvSpPr>
        <p:spPr>
          <a:xfrm>
            <a:off x="684360" y="0"/>
            <a:ext cx="8280360" cy="1341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спективные модел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М ОГЭ по истории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АСТЬ 2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15" name="Rectangle 288"/>
          <p:cNvSpPr/>
          <p:nvPr/>
        </p:nvSpPr>
        <p:spPr>
          <a:xfrm>
            <a:off x="7524720" y="2784960"/>
            <a:ext cx="1440000" cy="581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е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7200720" cy="378612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288"/>
          <p:cNvSpPr/>
          <p:nvPr/>
        </p:nvSpPr>
        <p:spPr>
          <a:xfrm>
            <a:off x="7524720" y="3648600"/>
            <a:ext cx="1440000" cy="581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КО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247760"/>
          </a:xfrm>
          <a:prstGeom prst="rect">
            <a:avLst/>
          </a:prstGeom>
          <a:ln w="0">
            <a:noFill/>
          </a:ln>
        </p:spPr>
      </p:pic>
      <p:sp>
        <p:nvSpPr>
          <p:cNvPr id="419" name="Прямоугольник 17"/>
          <p:cNvSpPr/>
          <p:nvPr/>
        </p:nvSpPr>
        <p:spPr>
          <a:xfrm>
            <a:off x="7015680" y="629748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Arial"/>
              </a:rPr>
              <a:t>WWW.ORCOKO.RU</a:t>
            </a: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20" name="Rectangle 199"/>
          <p:cNvSpPr/>
          <p:nvPr/>
        </p:nvSpPr>
        <p:spPr>
          <a:xfrm>
            <a:off x="-717480" y="-5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21" name=""/>
          <p:cNvSpPr/>
          <p:nvPr/>
        </p:nvSpPr>
        <p:spPr>
          <a:xfrm>
            <a:off x="5472000" y="0"/>
            <a:ext cx="3672000" cy="1197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спективные модели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М ОГЭ по истории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ние 22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508720" cy="30654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3419640" y="2882880"/>
            <a:ext cx="5724360" cy="3975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24776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17"/>
          <p:cNvSpPr/>
          <p:nvPr/>
        </p:nvSpPr>
        <p:spPr>
          <a:xfrm>
            <a:off x="7015680" y="629748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Arial"/>
              </a:rPr>
              <a:t>WWW.ORCOKO.RU</a:t>
            </a: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26" name="Rectangle 199"/>
          <p:cNvSpPr/>
          <p:nvPr/>
        </p:nvSpPr>
        <p:spPr>
          <a:xfrm>
            <a:off x="-717480" y="-5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27" name=""/>
          <p:cNvSpPr/>
          <p:nvPr/>
        </p:nvSpPr>
        <p:spPr>
          <a:xfrm>
            <a:off x="684360" y="0"/>
            <a:ext cx="8175600" cy="1052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ЖНО!</a:t>
            </a:r>
            <a:endParaRPr b="0" lang="en-US" sz="4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28" name="Rectangle 288"/>
          <p:cNvSpPr/>
          <p:nvPr/>
        </p:nvSpPr>
        <p:spPr>
          <a:xfrm>
            <a:off x="395280" y="141192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- Рассмотреть с учениками не только задания, но и критерии оценивания (в демоверсии);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Использовать ресурсы сайта ФИПИ (в первую очередь – Открытый банк заданий ОГЭ).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0" y="0"/>
            <a:ext cx="9158400" cy="124776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ольник 17"/>
          <p:cNvSpPr/>
          <p:nvPr/>
        </p:nvSpPr>
        <p:spPr>
          <a:xfrm>
            <a:off x="7015680" y="629748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Arial"/>
              </a:rPr>
              <a:t>WWW.ORCOKO.RU</a:t>
            </a: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!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d2533c"/>
                </a:solidFill>
                <a:latin typeface="Arial"/>
              </a:rPr>
              <a:t>Распределение заданий по частям </a:t>
            </a:r>
            <a:br>
              <a:rPr sz="1900"/>
            </a:br>
            <a:r>
              <a:rPr b="0" i="1" lang="ru-RU" sz="1900" spc="-1" strike="noStrike">
                <a:solidFill>
                  <a:srgbClr val="d2533c"/>
                </a:solidFill>
                <a:latin typeface="Arial"/>
              </a:rPr>
              <a:t>экзаменационной работы</a:t>
            </a:r>
            <a:endParaRPr b="0" lang="en-US" sz="19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52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320840"/>
          </a:xfrm>
          <a:prstGeom prst="rect">
            <a:avLst/>
          </a:prstGeom>
          <a:ln w="0">
            <a:noFill/>
          </a:ln>
        </p:spPr>
      </p:pic>
      <p:grpSp>
        <p:nvGrpSpPr>
          <p:cNvPr id="253" name="Группа 8"/>
          <p:cNvGrpSpPr/>
          <p:nvPr/>
        </p:nvGrpSpPr>
        <p:grpSpPr>
          <a:xfrm>
            <a:off x="1042920" y="0"/>
            <a:ext cx="7632720" cy="1197000"/>
            <a:chOff x="1042920" y="0"/>
            <a:chExt cx="7632720" cy="1197000"/>
          </a:xfrm>
        </p:grpSpPr>
        <p:sp>
          <p:nvSpPr>
            <p:cNvPr id="254" name="Скругленный прямоугольник 7"/>
            <p:cNvSpPr/>
            <p:nvPr/>
          </p:nvSpPr>
          <p:spPr>
            <a:xfrm>
              <a:off x="1134720" y="0"/>
              <a:ext cx="7540920" cy="119700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26280">
              <a:solidFill>
                <a:srgbClr val="6b7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55" name="TextBox 5"/>
            <p:cNvSpPr/>
            <p:nvPr/>
          </p:nvSpPr>
          <p:spPr>
            <a:xfrm>
              <a:off x="1042920" y="0"/>
              <a:ext cx="7356600" cy="947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Распределение заданий ОГЭ по основным содержательным разделам курса </a:t>
              </a:r>
              <a:r>
                <a:rPr b="1" lang="ru-RU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(Демо-2)</a:t>
              </a:r>
              <a:endParaRPr b="0" lang="en-US" sz="28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662472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d2533c"/>
                </a:solidFill>
                <a:latin typeface="Arial"/>
              </a:rPr>
              <a:t>Распределение заданий по частям </a:t>
            </a:r>
            <a:br>
              <a:rPr sz="1900"/>
            </a:br>
            <a:r>
              <a:rPr b="0" i="1" lang="ru-RU" sz="1900" spc="-1" strike="noStrike">
                <a:solidFill>
                  <a:srgbClr val="d2533c"/>
                </a:solidFill>
                <a:latin typeface="Arial"/>
              </a:rPr>
              <a:t>экзаменационной работы</a:t>
            </a:r>
            <a:endParaRPr b="0" lang="en-US" sz="19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58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320840"/>
          </a:xfrm>
          <a:prstGeom prst="rect">
            <a:avLst/>
          </a:prstGeom>
          <a:ln w="0">
            <a:noFill/>
          </a:ln>
        </p:spPr>
      </p:pic>
      <p:grpSp>
        <p:nvGrpSpPr>
          <p:cNvPr id="259" name="Группа 8"/>
          <p:cNvGrpSpPr/>
          <p:nvPr/>
        </p:nvGrpSpPr>
        <p:grpSpPr>
          <a:xfrm>
            <a:off x="1908000" y="0"/>
            <a:ext cx="6193080" cy="1312920"/>
            <a:chOff x="1908000" y="0"/>
            <a:chExt cx="6193080" cy="1312920"/>
          </a:xfrm>
        </p:grpSpPr>
        <p:sp>
          <p:nvSpPr>
            <p:cNvPr id="260" name="Скругленный прямоугольник 7"/>
            <p:cNvSpPr/>
            <p:nvPr/>
          </p:nvSpPr>
          <p:spPr>
            <a:xfrm>
              <a:off x="1982520" y="0"/>
              <a:ext cx="6118560" cy="119700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26280">
              <a:solidFill>
                <a:srgbClr val="6b7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61" name="TextBox 5"/>
            <p:cNvSpPr/>
            <p:nvPr/>
          </p:nvSpPr>
          <p:spPr>
            <a:xfrm>
              <a:off x="1908000" y="0"/>
              <a:ext cx="5969520" cy="1312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Шкала перевода баллов </a:t>
              </a:r>
              <a:r>
                <a:rPr b="1" lang="ru-RU" sz="4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(ОГЭ-2018)</a:t>
              </a:r>
              <a:endParaRPr b="0" lang="en-US" sz="40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900000" y="1415520"/>
            <a:ext cx="7554960" cy="52416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стория: 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0-12</a:t>
            </a:r>
            <a:r>
              <a:rPr b="1" lang="en-US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 баллов</a:t>
            </a:r>
            <a:r>
              <a:rPr b="0" lang="en-US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соответствуют оценке «2»,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3</a:t>
            </a:r>
            <a:r>
              <a:rPr b="1" i="1" lang="en-US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-23</a:t>
            </a:r>
            <a:r>
              <a:rPr b="0" i="1" lang="en-US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 - оценка «3»,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24-34</a:t>
            </a:r>
            <a:r>
              <a:rPr b="0" lang="en-US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  - оценка «4»,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35-44</a:t>
            </a:r>
            <a:r>
              <a:rPr b="0" i="1" lang="en-US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 - оценка «5»;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Максимальный балл — 44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Ориентиром при отборе в профильные классы может быть показатель, нижняя граница которого соответствует </a:t>
            </a:r>
            <a:r>
              <a:rPr b="1" lang="en-US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32 баллам.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d2533c"/>
                </a:solidFill>
                <a:latin typeface="Arial"/>
              </a:rPr>
              <a:t>Распределение заданий по частям </a:t>
            </a:r>
            <a:br>
              <a:rPr sz="1900"/>
            </a:br>
            <a:r>
              <a:rPr b="0" i="1" lang="ru-RU" sz="1900" spc="-1" strike="noStrike">
                <a:solidFill>
                  <a:srgbClr val="d2533c"/>
                </a:solidFill>
                <a:latin typeface="Arial"/>
              </a:rPr>
              <a:t>экзаменационной работы</a:t>
            </a:r>
            <a:endParaRPr b="0" lang="en-US" sz="19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64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320840"/>
          </a:xfrm>
          <a:prstGeom prst="rect">
            <a:avLst/>
          </a:prstGeom>
          <a:ln w="0">
            <a:noFill/>
          </a:ln>
        </p:spPr>
      </p:pic>
      <p:grpSp>
        <p:nvGrpSpPr>
          <p:cNvPr id="265" name="Группа 8"/>
          <p:cNvGrpSpPr/>
          <p:nvPr/>
        </p:nvGrpSpPr>
        <p:grpSpPr>
          <a:xfrm>
            <a:off x="1908000" y="0"/>
            <a:ext cx="6193080" cy="1197000"/>
            <a:chOff x="1908000" y="0"/>
            <a:chExt cx="6193080" cy="1197000"/>
          </a:xfrm>
        </p:grpSpPr>
        <p:sp>
          <p:nvSpPr>
            <p:cNvPr id="266" name="Скругленный прямоугольник 7"/>
            <p:cNvSpPr/>
            <p:nvPr/>
          </p:nvSpPr>
          <p:spPr>
            <a:xfrm>
              <a:off x="1982520" y="0"/>
              <a:ext cx="6118560" cy="119700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26280">
              <a:solidFill>
                <a:srgbClr val="6b7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67" name="TextBox 5"/>
            <p:cNvSpPr/>
            <p:nvPr/>
          </p:nvSpPr>
          <p:spPr>
            <a:xfrm>
              <a:off x="1908000" y="0"/>
              <a:ext cx="5969520" cy="703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братить внимание!</a:t>
              </a:r>
              <a:endParaRPr b="0" lang="en-US" sz="40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268" name="Прямоугольник 8"/>
          <p:cNvSpPr/>
          <p:nvPr/>
        </p:nvSpPr>
        <p:spPr>
          <a:xfrm>
            <a:off x="250920" y="1557360"/>
            <a:ext cx="889308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292934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В связи с переходом Орловской области на ФГОС в опережающем режиме в 2018-2019 учебном году в 5-9 классах школ области осуществляется преподавание истории по линейному принципу (т.е. ученики 9 классов заканчивают изучение истории 1914 годом)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buClr>
                <a:srgbClr val="292934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buClr>
                <a:srgbClr val="292934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На сайте ФИПИ размещена Демоверсия ОГЭ (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мо-2</a:t>
            </a:r>
            <a:r>
              <a:rPr b="0" lang="ru-RU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), предназначенная для регионов, в которых осуществляется изучение истории по линейному принципу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d2533c"/>
                </a:solidFill>
                <a:latin typeface="Arial"/>
              </a:rPr>
              <a:t>Распределение заданий по частям </a:t>
            </a:r>
            <a:br>
              <a:rPr sz="1900"/>
            </a:br>
            <a:r>
              <a:rPr b="0" i="1" lang="ru-RU" sz="1900" spc="-1" strike="noStrike">
                <a:solidFill>
                  <a:srgbClr val="d2533c"/>
                </a:solidFill>
                <a:latin typeface="Arial"/>
              </a:rPr>
              <a:t>экзаменационной работы</a:t>
            </a:r>
            <a:endParaRPr b="0" lang="en-US" sz="19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70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320840"/>
          </a:xfrm>
          <a:prstGeom prst="rect">
            <a:avLst/>
          </a:prstGeom>
          <a:ln w="0">
            <a:noFill/>
          </a:ln>
        </p:spPr>
      </p:pic>
      <p:grpSp>
        <p:nvGrpSpPr>
          <p:cNvPr id="271" name="Группа 8"/>
          <p:cNvGrpSpPr/>
          <p:nvPr/>
        </p:nvGrpSpPr>
        <p:grpSpPr>
          <a:xfrm>
            <a:off x="395280" y="0"/>
            <a:ext cx="8497800" cy="1197000"/>
            <a:chOff x="395280" y="0"/>
            <a:chExt cx="8497800" cy="1197000"/>
          </a:xfrm>
        </p:grpSpPr>
        <p:sp>
          <p:nvSpPr>
            <p:cNvPr id="272" name="Скругленный прямоугольник 7"/>
            <p:cNvSpPr/>
            <p:nvPr/>
          </p:nvSpPr>
          <p:spPr>
            <a:xfrm>
              <a:off x="497520" y="0"/>
              <a:ext cx="8395560" cy="119700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26280">
              <a:solidFill>
                <a:srgbClr val="6b7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73" name="TextBox 5"/>
            <p:cNvSpPr/>
            <p:nvPr/>
          </p:nvSpPr>
          <p:spPr>
            <a:xfrm>
              <a:off x="395280" y="0"/>
              <a:ext cx="8190000" cy="947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Распределение заданий ОГЭ по проверяемым умениям и способам действий </a:t>
              </a:r>
              <a:r>
                <a:rPr b="1" lang="ru-RU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(Демо-2)</a:t>
              </a:r>
              <a:endParaRPr b="0" lang="en-US" sz="28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4888080" cy="54453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643280" y="3946680"/>
            <a:ext cx="450072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24776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17"/>
          <p:cNvSpPr/>
          <p:nvPr/>
        </p:nvSpPr>
        <p:spPr>
          <a:xfrm>
            <a:off x="7015680" y="629748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Arial"/>
              </a:rPr>
              <a:t>WWW.ORCOKO.RU</a:t>
            </a: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056360" cy="863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дания части 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7488000" cy="498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247760"/>
          </a:xfrm>
          <a:prstGeom prst="rect">
            <a:avLst/>
          </a:prstGeom>
          <a:ln w="0">
            <a:noFill/>
          </a:ln>
        </p:spPr>
      </p:pic>
      <p:sp>
        <p:nvSpPr>
          <p:cNvPr id="281" name="Прямоугольник 17"/>
          <p:cNvSpPr/>
          <p:nvPr/>
        </p:nvSpPr>
        <p:spPr>
          <a:xfrm>
            <a:off x="7015680" y="629748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Arial"/>
              </a:rPr>
              <a:t>WWW.ORCOKO.RU</a:t>
            </a: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1116000" y="119160"/>
            <a:ext cx="6769080" cy="6562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06:09:31Z</dcterms:created>
  <dc:creator>PR</dc:creator>
  <dc:description/>
  <dc:language>en-US</dc:language>
  <cp:lastModifiedBy>qq</cp:lastModifiedBy>
  <cp:lastPrinted>2016-11-09T12:12:40Z</cp:lastPrinted>
  <dcterms:modified xsi:type="dcterms:W3CDTF">2019-03-04T14:01:18Z</dcterms:modified>
  <cp:revision>519</cp:revision>
  <dc:subject/>
  <dc:title>Презентация PowerPoint</dc:title>
</cp:coreProperties>
</file>